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73152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A0C295-5416-478B-B754-4DC0719E2B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806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8229600" cy="26751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636080"/>
            <a:ext cx="8229600" cy="26751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730E17-3270-41E0-A23B-BA0C651FF8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806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4015800" cy="26751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706400"/>
            <a:ext cx="4015800" cy="26751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636080"/>
            <a:ext cx="4015800" cy="26751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4636080"/>
            <a:ext cx="4015800" cy="26751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2688D6-718B-4C45-AAF4-598951E098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806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2649600" cy="26751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706400"/>
            <a:ext cx="2649600" cy="26751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706400"/>
            <a:ext cx="2649600" cy="26751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636080"/>
            <a:ext cx="2649600" cy="26751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4636080"/>
            <a:ext cx="2649600" cy="26751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4636080"/>
            <a:ext cx="2649600" cy="26751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9C3005-DFAC-4317-AF97-DAC8E052710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806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706400"/>
            <a:ext cx="8229600" cy="56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C99174-DB0D-4AC6-BCBF-9B5365F021D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806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8229600" cy="5608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C6E374-0D62-417C-A0AD-34643F2E1E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806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4015800" cy="5608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706400"/>
            <a:ext cx="4015800" cy="5608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8A5D0E-05F7-4AAD-A6D6-86D4B00604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806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7BA67A-E647-48E4-9199-9061937D03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83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1B9668-F41F-4E35-9C1B-02BA7DAAA8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806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4015800" cy="26751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706400"/>
            <a:ext cx="4015800" cy="5608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636080"/>
            <a:ext cx="4015800" cy="26751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B84972-EA04-434E-8FF9-6D504E4530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806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4015800" cy="5608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06400"/>
            <a:ext cx="4015800" cy="26751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4636080"/>
            <a:ext cx="4015800" cy="26751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ACC672-C5DC-448D-ADE6-B834295400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806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4015800" cy="26751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06400"/>
            <a:ext cx="4015800" cy="26751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636080"/>
            <a:ext cx="8229600" cy="26751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32F70C-3A51-4651-B95A-54055922DB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806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706400"/>
            <a:ext cx="8229600" cy="5608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462440" y="666072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199E8-6472-4835-8AE7-93008CD856F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eu-skladi.si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1" descr=""/>
          <p:cNvPicPr/>
          <p:nvPr/>
        </p:nvPicPr>
        <p:blipFill>
          <a:blip r:embed="rId2"/>
          <a:stretch/>
        </p:blipFill>
        <p:spPr>
          <a:xfrm>
            <a:off x="4680" y="0"/>
            <a:ext cx="9134640" cy="731520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2" descr=""/>
          <p:cNvPicPr/>
          <p:nvPr/>
        </p:nvPicPr>
        <p:blipFill>
          <a:blip r:embed="rId3"/>
          <a:stretch/>
        </p:blipFill>
        <p:spPr>
          <a:xfrm>
            <a:off x="-3240" y="-12600"/>
            <a:ext cx="9134640" cy="7315200"/>
          </a:xfrm>
          <a:prstGeom prst="rect">
            <a:avLst/>
          </a:prstGeom>
          <a:ln w="0">
            <a:noFill/>
          </a:ln>
        </p:spPr>
      </p:pic>
      <p:pic>
        <p:nvPicPr>
          <p:cNvPr id="41" name="Picture 3" descr=""/>
          <p:cNvPicPr/>
          <p:nvPr/>
        </p:nvPicPr>
        <p:blipFill>
          <a:blip r:embed="rId4"/>
          <a:stretch/>
        </p:blipFill>
        <p:spPr>
          <a:xfrm>
            <a:off x="457200" y="777960"/>
            <a:ext cx="4114800" cy="72540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4"/>
          <p:cNvSpPr/>
          <p:nvPr/>
        </p:nvSpPr>
        <p:spPr>
          <a:xfrm>
            <a:off x="1328760" y="2505240"/>
            <a:ext cx="61088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old"/>
                <a:ea typeface="Arial Bold"/>
              </a:rPr>
              <a:t>PREDSTAVITEV IZVAJANJA NAČRT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old"/>
                <a:ea typeface="Arial Bold"/>
              </a:rPr>
              <a:t>VREDNOTNEJA OPERATIVNEGA PROGRAM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old"/>
                <a:ea typeface="Arial Bold"/>
              </a:rPr>
              <a:t>RAZVOJA ČLOVEŠKIH VIROV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old"/>
                <a:ea typeface="Arial Bold"/>
              </a:rPr>
              <a:t>ZA OBDOBJE 2007-20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Brd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1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5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Ograda številke diapozitiva 3"/>
          <p:cNvSpPr/>
          <p:nvPr/>
        </p:nvSpPr>
        <p:spPr>
          <a:xfrm>
            <a:off x="7462800" y="66610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34864-2799-4D64-8671-0C7D998F8DB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ravokotnik 4"/>
          <p:cNvSpPr/>
          <p:nvPr/>
        </p:nvSpPr>
        <p:spPr>
          <a:xfrm>
            <a:off x="379440" y="2217600"/>
            <a:ext cx="813744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Arial"/>
              </a:rPr>
              <a:t>NEKAJ PRIPOROČIL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- umestitev klavzule glede pridobivanja podatkov o zaposlitvenem statusu za potrebe vrednotenja za obdobje 18 mesecev po prenehanju pogodbenih obveznosti v vse pogodbe s končnimi upravičenci pred njihovo sklenitvijo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- preučiti je treba, na kakšen način si lahko Organ upravljanja ali posredniška telesa zagotovijo enostaven dostop in križanje različnih podatkovnih baze (ISARR, ZPIS, podatkovno bazo ZRSZ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Ograda številke diapozitiva 3"/>
          <p:cNvSpPr/>
          <p:nvPr/>
        </p:nvSpPr>
        <p:spPr>
          <a:xfrm>
            <a:off x="7462800" y="66610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91BF9-7997-4431-9288-91897304FDB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ravokotnik 4"/>
          <p:cNvSpPr/>
          <p:nvPr/>
        </p:nvSpPr>
        <p:spPr>
          <a:xfrm>
            <a:off x="755640" y="1346040"/>
            <a:ext cx="7488360" cy="170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5280" indent="-28584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5280" indent="-28584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  <a:ea typeface="Arial"/>
              </a:rPr>
              <a:t>P</a:t>
            </a:r>
            <a:r>
              <a:rPr b="0" lang="nn-NO" sz="1600" spc="-1" strike="noStrike">
                <a:solidFill>
                  <a:srgbClr val="000000"/>
                </a:solidFill>
                <a:latin typeface="Arial"/>
                <a:ea typeface="Arial"/>
              </a:rPr>
              <a:t>regled uresničevanja strateških ciljev visokega šolstva v RS, ki so podlaga za načrtovanje in izvajanje ukrepov v OP 2014 – 2020 s področja visokega šolstva</a:t>
            </a:r>
            <a:r>
              <a:rPr b="0" lang="sl-SI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5280" indent="-28584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a6a6a6"/>
                </a:solidFill>
                <a:latin typeface="Arial"/>
                <a:ea typeface="Arial"/>
              </a:rPr>
              <a:t>začetek vrednotenja predviden v juliju 201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5280" indent="-28584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a6a6a6"/>
                </a:solidFill>
                <a:latin typeface="Arial"/>
                <a:ea typeface="Arial"/>
              </a:rPr>
              <a:t>konec vseh aktivnosti do novembra 201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ravokotnik 5"/>
          <p:cNvSpPr/>
          <p:nvPr/>
        </p:nvSpPr>
        <p:spPr>
          <a:xfrm>
            <a:off x="2567160" y="1136520"/>
            <a:ext cx="269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09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POSTOPKI V TEKU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ravokotnik 6"/>
          <p:cNvSpPr/>
          <p:nvPr/>
        </p:nvSpPr>
        <p:spPr>
          <a:xfrm>
            <a:off x="755640" y="3475080"/>
            <a:ext cx="7777080" cy="25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9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Arial"/>
                <a:ea typeface="Arial"/>
              </a:rPr>
              <a:t>NAMEN VREDNOTENJ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09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09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Cilj strateškega vrednotenja dveh evalvacij v okviru Pregleda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resničevanja strateških ciljev visokega šolstva v RS, ki so podlaga za načrtovanje in izvajanje ukrepov v OP 2014 – 2020 s področja visokega šolstva je podati kvalitativno oceno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0944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resničevanja ciljev nacionalnega programa visokega šolstva na treh prednostnih področij ReNPVŠ11-20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0944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eracij na področju visokega šolstva v </a:t>
            </a: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OP RČV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v programskem obdobju 2007 – 20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Ograda številke diapozitiva 3"/>
          <p:cNvSpPr/>
          <p:nvPr/>
        </p:nvSpPr>
        <p:spPr>
          <a:xfrm>
            <a:off x="7462800" y="66610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32BCE-3A3D-4CB7-AA13-B334E2AAE20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ravokotnik 4"/>
          <p:cNvSpPr/>
          <p:nvPr/>
        </p:nvSpPr>
        <p:spPr>
          <a:xfrm>
            <a:off x="179280" y="1281240"/>
            <a:ext cx="8496360" cy="48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5280" indent="-28584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Arial"/>
                <a:ea typeface="Arial"/>
              </a:rPr>
              <a:t>PREDMET VREDNOTENJ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5280" indent="-28584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528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edmet evalvacije uresničevanja nacionalnega programa visokega šolstva j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9528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9528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egled realizacije ukrepov ReNPVŠ11-20 na področju kakovosti visokega šolstva, zlasti ukrepov številka 19, 20, 21, 22, 23, 24, 27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9528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egled realizacije ukrepov ReNPVŠ11-20 na področju internacionalizacije visokega šolstva, zlasti ukrepov številka 28, 29, 30, 31, 32, 33, 34, 38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9528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egled realizacije ukrepa ReNPVŠ11-20 številka 5a (sodelovanje visokošolskih institucij z gospodarstvom in negospodarstvom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9528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egled realizacije drugih ukrepov ReNPVŠ11-20, ki so relevantni za načrtovanje oziroma izvajanje ukrepov v OP 2014 – 2020 s področja visokega šolstva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9528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ena doseganja ciljev in meril ReNPVŠ11-20 na naslednjih področjih: kakovost, internacionalizacija ter povezanost z gospodarstvom, negospodarstvom in raziskovalnimi zavodi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9528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ena ključnih deležnikov o doseganju ciljev in meril ReNPVŠ11-20, prvenstveno na področjih: kakovost, internacionalizacija ter povezanost z gospodarstvom, negospodarstvom in raziskovalnimi zavodi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9528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9528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edmet evalvacije operacij na področju visokega šolstva v Operativnem programu razvoja človeških virov v programskem obdobju 2007 – 2013 j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9528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- 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aliz</a:t>
            </a: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zvedbe in ocena uspešnosti operacij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9528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edlog izboljšav za načrtovanje in izvedbo ukrepov v programskem obdobju 2014 – 2020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Ograda številke diapozitiva 3"/>
          <p:cNvSpPr/>
          <p:nvPr/>
        </p:nvSpPr>
        <p:spPr>
          <a:xfrm>
            <a:off x="7462800" y="66610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47BE7-1A90-4031-AD2C-A313D253536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ravokotnik 4"/>
          <p:cNvSpPr/>
          <p:nvPr/>
        </p:nvSpPr>
        <p:spPr>
          <a:xfrm>
            <a:off x="539640" y="1569960"/>
            <a:ext cx="7345440" cy="459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5280" indent="-28584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Arial"/>
                <a:ea typeface="Arial"/>
              </a:rPr>
              <a:t>PREDVIDENE AKTIVNOSTI V 2015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5280" indent="-285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5280" indent="-28584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Evalvacija politike aktivacije brezposelnih (predlog OECD "Connecting People with Jobs") </a:t>
            </a:r>
            <a:r>
              <a:rPr b="0" lang="sl-SI" sz="1600" spc="-1" strike="noStrike">
                <a:solidFill>
                  <a:srgbClr val="a6a6a6"/>
                </a:solidFill>
                <a:latin typeface="Arial"/>
              </a:rPr>
              <a:t>(v sodelovanju z MDDSZ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5280" indent="-28584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Strategija razvoja  sistema poklicnega izobraževanja v RS, ki so vključeni v OP 2014-2020 </a:t>
            </a:r>
            <a:r>
              <a:rPr b="0" lang="sl-SI" sz="1600" spc="-1" strike="noStrike">
                <a:solidFill>
                  <a:srgbClr val="a6a6a6"/>
                </a:solidFill>
                <a:latin typeface="Arial"/>
              </a:rPr>
              <a:t>(v sodelovanju z MIZŠ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5280" indent="-28584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Vrednotenje Youth Employment Initiative (YEI) (do 31. 12. 2015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5280" indent="-28584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Vrednotenje Učinkovita in uspešna javna uprava in Zdravstvo v informacijski dobi </a:t>
            </a:r>
            <a:r>
              <a:rPr b="0" lang="sl-SI" sz="1600" spc="-1" strike="noStrike">
                <a:solidFill>
                  <a:srgbClr val="a6a6a6"/>
                </a:solidFill>
                <a:latin typeface="Arial"/>
              </a:rPr>
              <a:t>(ponovitev postopk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5280" indent="-28584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5280" indent="-285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5280" indent="-28584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Arial"/>
              </a:rPr>
              <a:t>Priprava Načrta vrednotenj 2014-2020 </a:t>
            </a:r>
            <a:r>
              <a:rPr b="0" lang="sl-SI" sz="1600" spc="-1" strike="noStrike">
                <a:solidFill>
                  <a:srgbClr val="a6a6a6"/>
                </a:solidFill>
                <a:latin typeface="Arial"/>
              </a:rPr>
              <a:t>(v teku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5280" indent="-285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5280" indent="-28584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5280" indent="-285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5280" indent="-285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Ograda številke diapozitiva 3"/>
          <p:cNvSpPr/>
          <p:nvPr/>
        </p:nvSpPr>
        <p:spPr>
          <a:xfrm>
            <a:off x="7462800" y="66610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7DD3D-D910-44C3-B1CA-A13FC050C64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" descr=""/>
          <p:cNvPicPr/>
          <p:nvPr/>
        </p:nvPicPr>
        <p:blipFill>
          <a:blip r:embed="rId1"/>
          <a:stretch/>
        </p:blipFill>
        <p:spPr>
          <a:xfrm>
            <a:off x="2286000" y="1496880"/>
            <a:ext cx="4572000" cy="385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grada številke diapozitiva 3"/>
          <p:cNvSpPr/>
          <p:nvPr/>
        </p:nvSpPr>
        <p:spPr>
          <a:xfrm>
            <a:off x="7462800" y="66610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E3DAC-3756-473C-8D3A-8E161EBF392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760320" y="2485800"/>
            <a:ext cx="7521840" cy="34225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Pregled izvajanja načr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Pregled izvedenih vrednotenj oz. vrednotenj v tek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5280" y="12092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6b6bcf"/>
                </a:solidFill>
                <a:latin typeface="Arial"/>
              </a:rPr>
              <a:t>VSEB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Ograda številke diapozitiva 3"/>
          <p:cNvSpPr/>
          <p:nvPr/>
        </p:nvSpPr>
        <p:spPr>
          <a:xfrm>
            <a:off x="7462800" y="66610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F461F-BB89-4B80-9280-934BA8E1C0F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5280" y="92088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222268"/>
                </a:solidFill>
                <a:latin typeface="Arial"/>
              </a:rPr>
              <a:t>SREDSTVA TP (ES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398600" y="1892160"/>
          <a:ext cx="6095880" cy="198144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800" spc="-1" strike="noStrike">
                          <a:solidFill>
                            <a:srgbClr val="6b6bcf"/>
                          </a:solidFill>
                          <a:latin typeface="Angsana New"/>
                          <a:ea typeface="Angsana New"/>
                        </a:rPr>
                        <a:t>ES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8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TP SREDSTVA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8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(SLO in EU del)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8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32,9 mi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8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ZA VREDNOTENJA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8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500.000 oz. cca. 1 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  <p:pic>
        <p:nvPicPr>
          <p:cNvPr id="49" name="Picture 18" descr=""/>
          <p:cNvPicPr/>
          <p:nvPr/>
        </p:nvPicPr>
        <p:blipFill>
          <a:blip r:embed="rId1"/>
          <a:stretch/>
        </p:blipFill>
        <p:spPr>
          <a:xfrm>
            <a:off x="324000" y="3728880"/>
            <a:ext cx="8229600" cy="12193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9" descr=""/>
          <p:cNvPicPr/>
          <p:nvPr/>
        </p:nvPicPr>
        <p:blipFill>
          <a:blip r:embed="rId2"/>
          <a:stretch/>
        </p:blipFill>
        <p:spPr>
          <a:xfrm>
            <a:off x="1387440" y="4483080"/>
            <a:ext cx="6102360" cy="2212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Ograda številke diapozitiva 3"/>
          <p:cNvSpPr/>
          <p:nvPr/>
        </p:nvSpPr>
        <p:spPr>
          <a:xfrm>
            <a:off x="7462800" y="66610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9EAB7-6C08-47B7-9C09-11ED233C482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250560" y="1712520"/>
            <a:ext cx="8497800" cy="51483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Vrednotenje javnega razpisa za sofinanciranje projektov horizontalnih NVO mrež in regionalnih stičišč za leto 200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Vrednotenje razpisa za izbor razvojnih projektov za dvig zaposljivosti ranljivih družbenih skupin na področju kulture in podporo njihovi socialni vključenosti v letih 2008-2009 s pripravo poročil za nadaljnje izvajanje aktivnosti za doseganje ciljev prednostne usmeritve 4.3. v OP RČ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Vrednotenje 1. in 2. prednostne usmeritve Izboljšanje kakovosti in učinkovitosti sistemov izobraževanja in usposabljanja ter Izboljšanje usposobljenosti posameznika za delo in življenje v družbi temelječi na znanju 3. Razvojne prioritete OP ESS Razvoj človeških virov in vseživljenjskega učenj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 CE"/>
              </a:rPr>
              <a:t>Vmesno vrednotenje komunikacijskega načrta cilja Konvergen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Vrednotenje  prednostnih usmeritev s področja trga dela, ki jih v okviru OP RČV izvaja Ministrstvo za delo, družino in socialne zade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4360" y="993240"/>
            <a:ext cx="7853040" cy="5842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6b6bcf"/>
                </a:solidFill>
                <a:latin typeface="Arial"/>
              </a:rPr>
              <a:t>IZVEDENA VREDNOTENJA 2007 – DO DA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Ograda številke diapozitiva 3"/>
          <p:cNvSpPr/>
          <p:nvPr/>
        </p:nvSpPr>
        <p:spPr>
          <a:xfrm>
            <a:off x="7462800" y="66610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37643-9E8A-4030-8BBE-ADA7A65FF5C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250560" y="1641600"/>
            <a:ext cx="8497800" cy="51480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Vrednotenje javnega razpisa za sofinanciranje projektov horizontalnih NVO mrež in regionalnih stičišč za leto 200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Vrednotenje razpisa za izbor razvojnih projektov za dvig zaposljivosti ranljivih družbenih skupin na področju kulture in podporo njihovi socialni vključenosti v letih 2008-2009 s pripravo poročil za nadaljnje izvajanje aktivnosti za doseganje ciljev prednostne usmeritve 4.3. v OP RČ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Vrednotenje 1. in 2. prednostne usmeritve Izboljšanje kakovosti in učinkovitosti sistemov izobraževanja in usposabljanja ter Izboljšanje usposobljenosti posameznika za delo in življenje v družbi temelječi na znanju 3. Razvojne prioritete OP ESS Razvoj človeških virov in vseživljenjskega učenj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 CE"/>
              </a:rPr>
              <a:t>Vmesno vrednotenje komunikacijskega načrta cilja Konvergen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Vrednotenje  prednostnih usmeritev s področja trga dela, ki jih v okviru OP RČV izvaja Ministrstvo za delo, družino in socialne zade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4360" y="993240"/>
            <a:ext cx="7853040" cy="5842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6b6bcf"/>
                </a:solidFill>
                <a:latin typeface="Arial"/>
              </a:rPr>
              <a:t>IZVEDENA VREDNOTENJA 2007 – DO DA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Ograda številke diapozitiva 3"/>
          <p:cNvSpPr/>
          <p:nvPr/>
        </p:nvSpPr>
        <p:spPr>
          <a:xfrm>
            <a:off x="7462800" y="66610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8F89A-DADE-453F-8A2D-D0C24976D2C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grada vsebine 1"/>
          <p:cNvSpPr/>
          <p:nvPr/>
        </p:nvSpPr>
        <p:spPr>
          <a:xfrm>
            <a:off x="457200" y="2144880"/>
            <a:ext cx="8229600" cy="48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90000" tIns="50760" bIns="50760" anchor="t">
            <a:noAutofit/>
          </a:bodyPr>
          <a:p>
            <a:pPr marL="365040" indent="-255600">
              <a:spcBef>
                <a:spcPts val="700"/>
              </a:spcBef>
              <a:buClr>
                <a:srgbClr val="2da2b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Vrednotenje ukrepov za spodbujanje raziskovalno razvojnih aktivnosti v gospodarstvu in institucijah znanja (ESRR&amp;ES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700"/>
              </a:spcBef>
              <a:buClr>
                <a:srgbClr val="2da2b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  <a:ea typeface="Arial"/>
              </a:rPr>
              <a:t>Vrednotenje krepitve kapacitet nevladnih organizacij s pomočjo vzpostavljanja podpornih struktur (julij 2014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Arial"/>
              </a:rPr>
              <a:t>CRP PROJEKT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700"/>
              </a:spcBef>
              <a:buClr>
                <a:srgbClr val="2da2b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Institucionalna evalvacija Zavoda RS za zaposlovanj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700"/>
              </a:spcBef>
              <a:buClr>
                <a:srgbClr val="2da2b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Vrednotenje največjih programov aktivne politike zaposlovanja, vključno z ukrepi proti gospodarski in finančni kriz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44400" y="1064880"/>
            <a:ext cx="7855200" cy="585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6b6bcf"/>
                </a:solidFill>
                <a:latin typeface="Arial"/>
              </a:rPr>
              <a:t>IZVEDENA VREDNOTENJA 2007 – DO DA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Ograda številke diapozitiva 3"/>
          <p:cNvSpPr/>
          <p:nvPr/>
        </p:nvSpPr>
        <p:spPr>
          <a:xfrm>
            <a:off x="7462800" y="66610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91785-3722-472A-9C96-87EC57EE6E6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4360" y="993240"/>
            <a:ext cx="7853040" cy="5842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6b6bcf"/>
                </a:solidFill>
                <a:latin typeface="Arial"/>
              </a:rPr>
              <a:t>OD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2800" spc="-1" strike="noStrike">
                <a:solidFill>
                  <a:srgbClr val="6b6bcf"/>
                </a:solidFill>
                <a:latin typeface="Arial"/>
              </a:rPr>
              <a:t>ZADNJEGA NO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ravokotnik 6"/>
          <p:cNvSpPr/>
          <p:nvPr/>
        </p:nvSpPr>
        <p:spPr>
          <a:xfrm>
            <a:off x="263520" y="2144880"/>
            <a:ext cx="8353440" cy="25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5280" indent="-28584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Arial"/>
                <a:ea typeface="Arial"/>
              </a:rPr>
              <a:t>NAREJENO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5280" indent="-28584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  <a:ea typeface="Arial"/>
              </a:rPr>
              <a:t>Vrednotenje krepitve kapacitet nevladnih organizacij s pomočjo vzpostavljanja podpornih struktur (julij 2014) </a:t>
            </a:r>
            <a:r>
              <a:rPr b="0" lang="sl-SI" sz="1600" spc="-1" strike="noStrike">
                <a:solidFill>
                  <a:srgbClr val="a6a6a6"/>
                </a:solidFill>
                <a:latin typeface="Arial"/>
                <a:ea typeface="Arial"/>
              </a:rPr>
              <a:t>(predstavljeno decembr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5280" indent="-28584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5280" indent="-28584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5280" indent="-28584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Arial"/>
                <a:ea typeface="Arial"/>
              </a:rPr>
              <a:t>V IZVAJANJU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5280" indent="-28584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  <a:ea typeface="Arial"/>
              </a:rPr>
              <a:t>Končno vrednotenje izvajanja ukrepov ESS za spodbujanje socialne vključenosti in zagotavljanja enakih možnosti v obdobju 2007-2013 (zaključeno: do 20. 6. 2015</a:t>
            </a:r>
            <a:r>
              <a:rPr b="0" lang="sl-SI" sz="16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5280" indent="-285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280" y="561960"/>
            <a:ext cx="8229600" cy="1806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6b6bcf"/>
                </a:solidFill>
                <a:latin typeface="Arial"/>
                <a:ea typeface="Arial"/>
              </a:rPr>
              <a:t>Končno vrednotenje izvajanja ukrepov ESS za spodbujanje socialne vključenosti in zagotavljanja enakih možnosti v obdobju 2007-20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68360" y="1928520"/>
            <a:ext cx="8229600" cy="56084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Končno vrednotenje četrte razvojne prioritete ESS 2007-2013 'Spodbujanje socialne vključenosti in zagotavljanje enakih možnosti'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Arial"/>
              </a:rPr>
              <a:t>PREDMET KONČNEGA VREDNOTENJ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Instrumenti, ki so se izvajali v okviru treh prednostnih usmeritev četrte razvojne prioritete ESS 2007-2013 'Spodbujanje socialne vključenosti in zagotavljanje enakih možnosti', in sicer: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PU 4.1. Enake možnosti na trgu dela in krepitev socialne vključenosti (12 instrumentov, razpoložljive pravice porabe: 43 M€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PU 4.2. Povečati dostopnost in enakost možnosti v sistemu vzgoje in izobraževanja (10 instrumentov, razpoložljive pravice porabe: 7,9 M€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PU 4.3: Dvig zaposljivosti ranljivih družbenih skupin in podpora njihovi socialni vključenosti (12 instrumentov, razpoložljive pravice porabe: 15,2 M€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Izvajalec: PITIJA svetovanje, d.o.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grada številke diapozitiva 3"/>
          <p:cNvSpPr/>
          <p:nvPr/>
        </p:nvSpPr>
        <p:spPr>
          <a:xfrm>
            <a:off x="7462800" y="66610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5E357-921B-4152-A9D6-C60A317D790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457200" y="1706400"/>
            <a:ext cx="8229600" cy="5608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Arial"/>
              </a:rPr>
              <a:t>NEKAJ UGOTOVITEV</a:t>
            </a: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Veliko ugotovljenih pomanjkljivosti glede izvajanja četrte razvojne prioritete je v novem finančnem obdobju 2014-2020  odpravljenih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za novo finančno obdobje je pripravljena jasna in podrobna metodologija zbiranja podatkov za kazalnike, ki vključuje tudi definicije kazalnikov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ranljive ciljne skupine so jasno definirane že v Operativnem programu, poenotene definicije pa naj bi se upoštevale tudi v razpisih posameznih posredniških tel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vsakega končnega upravičenca naj bi se spremljalo ob vključitvi v program in ob izstopu iz programa. Na ta način naj bi se zagotovilo, da bo oseba obravnavana le enkra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6b6bcf"/>
                </a:solidFill>
                <a:latin typeface="Arial"/>
              </a:rPr>
              <a:t>S stališča doseganja ciljnih vrednosti kazalnikov ali naslavljanja specifičnih ciljev četrte razvojne prioritete, bi lahko zaključili, da je bila 4. RP izvedena uspešno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Arial"/>
              </a:rPr>
              <a:t>KONČNO POROČILO: 20. 6. 201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Končno poročilo bo objavljeno na </a:t>
            </a:r>
            <a:r>
              <a:rPr b="0" lang="sl-SI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eu-skladi.s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grada številke diapozitiva 3"/>
          <p:cNvSpPr/>
          <p:nvPr/>
        </p:nvSpPr>
        <p:spPr>
          <a:xfrm>
            <a:off x="7462800" y="66610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D4D40-E2CD-47D8-A85F-EC8A0A1D34A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Z</dc:creator>
  <dc:description/>
  <dc:language>en-US</dc:language>
  <cp:lastModifiedBy>Petra Jerina</cp:lastModifiedBy>
  <cp:lastPrinted>2015-06-01T09:23:34Z</cp:lastPrinted>
  <dcterms:modified xsi:type="dcterms:W3CDTF">2015-06-03T06:54:45Z</dcterms:modified>
  <cp:revision>52</cp:revision>
  <dc:subject/>
  <dc:title>Naslov</dc:title>
</cp:coreProperties>
</file>